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45C-1FA6-470E-93F7-321305E8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8CE-11DD-4590-BA45-D04CD044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531-60F1-4D33-9843-0A9BED9A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6CF-093B-45D1-B9DE-C4291F76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7B5-4866-43C3-B4E8-A9DED2E6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E80-39E3-4211-92D6-DF637AB9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351-C28E-4E39-9BBB-5AE3D8D1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82A-FF86-41EB-A7B3-3E9CF7A5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6AA-BFE6-4680-A82C-21C169A5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3FE-50A1-4FE7-880B-A034A24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EAD-59E9-4010-ACC5-55F626E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340-5DF6-499E-8E9E-831C64F5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58F2-334D-40F4-8F09-AAAECFFB9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2080" y="375480"/>
            <a:ext cx="8107200" cy="5573520"/>
            <a:chOff x="442080" y="375480"/>
            <a:chExt cx="8107200" cy="5573520"/>
          </a:xfrm>
        </p:grpSpPr>
        <p:sp>
          <p:nvSpPr>
            <p:cNvPr id="42" name="_s2065"/>
            <p:cNvSpPr/>
            <p:nvPr/>
          </p:nvSpPr>
          <p:spPr>
            <a:xfrm flipH="1">
              <a:off x="2468880" y="3161880"/>
              <a:ext cx="101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4"/>
            <p:cNvSpPr/>
            <p:nvPr/>
          </p:nvSpPr>
          <p:spPr>
            <a:xfrm>
              <a:off x="442080" y="2465280"/>
              <a:ext cx="2026440" cy="1393200"/>
            </a:xfrm>
            <a:prstGeom prst="ellipse">
              <a:avLst/>
            </a:prstGeom>
            <a:gradFill rotWithShape="0">
              <a:gsLst>
                <a:gs pos="0">
                  <a:srgbClr val="086d0a"/>
                </a:gs>
                <a:gs pos="100000">
                  <a:srgbClr val="12ee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"/>
                </a:rPr>
                <a:t>Chile owns 1.25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"/>
                </a:rPr>
                <a:t>Million sq.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"/>
                </a:rPr>
                <a:t>Of Antarc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3"/>
            <p:cNvSpPr/>
            <p:nvPr/>
          </p:nvSpPr>
          <p:spPr>
            <a:xfrm>
              <a:off x="4495680" y="3858840"/>
              <a:ext cx="0" cy="69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2"/>
            <p:cNvSpPr/>
            <p:nvPr/>
          </p:nvSpPr>
          <p:spPr>
            <a:xfrm>
              <a:off x="3482280" y="4555440"/>
              <a:ext cx="2026440" cy="1393560"/>
            </a:xfrm>
            <a:prstGeom prst="ellipse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 Antiqua"/>
                </a:rPr>
                <a:t>Chile 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 Antiqua"/>
                </a:rPr>
                <a:t>democratic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59"/>
            <p:cNvSpPr/>
            <p:nvPr/>
          </p:nvSpPr>
          <p:spPr>
            <a:xfrm>
              <a:off x="5508720" y="3161880"/>
              <a:ext cx="101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8"/>
            <p:cNvSpPr/>
            <p:nvPr/>
          </p:nvSpPr>
          <p:spPr>
            <a:xfrm>
              <a:off x="6522120" y="2465280"/>
              <a:ext cx="2027160" cy="1393200"/>
            </a:xfrm>
            <a:prstGeom prst="ellipse">
              <a:avLst/>
            </a:prstGeom>
            <a:gradFill rotWithShape="0">
              <a:gsLst>
                <a:gs pos="0">
                  <a:srgbClr val="5cd32d"/>
                </a:gs>
                <a:gs pos="100000">
                  <a:srgbClr val="2a611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Before the Spanis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Came to Chile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16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 Rounded MT Bold"/>
                </a:rPr>
                <a:t>t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 cent, th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Araucanians ha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Been in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Of the l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57"/>
            <p:cNvSpPr/>
            <p:nvPr/>
          </p:nvSpPr>
          <p:spPr>
            <a:xfrm flipV="1">
              <a:off x="4495680" y="1768320"/>
              <a:ext cx="0" cy="69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56"/>
            <p:cNvSpPr/>
            <p:nvPr/>
          </p:nvSpPr>
          <p:spPr>
            <a:xfrm>
              <a:off x="3482280" y="375480"/>
              <a:ext cx="2026440" cy="1393200"/>
            </a:xfrm>
            <a:prstGeom prst="ellipse">
              <a:avLst/>
            </a:prstGeom>
            <a:gradFill rotWithShape="0">
              <a:gsLst>
                <a:gs pos="0">
                  <a:srgbClr val="005e00"/>
                </a:gs>
                <a:gs pos="100000">
                  <a:srgbClr val="00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the north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, th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habitants we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led by th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a empi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5"/>
            <p:cNvSpPr/>
            <p:nvPr/>
          </p:nvSpPr>
          <p:spPr>
            <a:xfrm>
              <a:off x="3482280" y="2465280"/>
              <a:ext cx="2026440" cy="1393200"/>
            </a:xfrm>
            <a:prstGeom prst="ellipse">
              <a:avLst/>
            </a:prstGeom>
            <a:gradFill rotWithShape="0">
              <a:gsLst>
                <a:gs pos="0">
                  <a:srgbClr val="175e17"/>
                </a:gs>
                <a:gs pos="50000">
                  <a:srgbClr val="33cc33"/>
                </a:gs>
                <a:gs pos="100000">
                  <a:srgbClr val="175e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ungsuh"/>
                </a:rPr>
                <a:t>CHI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6:32:56Z</dcterms:created>
  <dc:creator>teacher</dc:creator>
  <dc:description/>
  <dc:language>en-US</dc:language>
  <cp:lastModifiedBy>teacher</cp:lastModifiedBy>
  <dcterms:modified xsi:type="dcterms:W3CDTF">2010-05-07T16:28:14Z</dcterms:modified>
  <cp:revision>4</cp:revision>
  <dc:subject/>
  <dc:title>Slide 1</dc:title>
</cp:coreProperties>
</file>